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21299-454B-4A19-BE89-295CE8DB048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51310-DB32-49BB-8F93-1311AD5B60B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B8B6D-1FEA-411A-A924-7B74221917B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EA4C2-FAC5-4AB8-8A4C-68519DA28553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479EA-3BA3-4545-A1A5-2A8E7A6CDDE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955BD-BE93-41FA-98D3-1FB36A018DB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0529B-AADC-4880-830D-382395F2BF24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9380F-B077-46BB-8226-3CEB18106604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F101C-201D-453A-BC75-96D0106C2E02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563C6-12FB-42D4-AED1-1E06E285D46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D19EE-964D-4925-91FC-99D72389EC73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31652-8703-4FFA-B831-436C09A52643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159F1-C88C-4DF4-89E7-5D5EF5602C26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4CE64-79AE-49DD-8821-7F96E3DA43E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5E687-924C-49D0-A0AE-12CC019303E9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19900-0331-47F3-AA24-0FBA62A9DF29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07826A-F778-4615-8321-33B92BB2C5C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6D7C-F9FE-40F2-9AF3-743844F0012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BA6FA-1548-4B09-8946-DA8EC38316A6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619FC-291B-4356-81BE-FEF10B6743F4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5AFA6-D756-46C5-8733-0490D9AE9A24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3BB86-1687-49F7-9F26-FA2584B895A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300D0-2FB7-4D26-BBBC-DF6EA209CFE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14F31-9A38-48EE-B123-D5C0CB6C738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9487-887E-40D6-A78C-E115E1D51BC6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552142-2703-4E5B-9BAE-21773EAACAB9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A2E61-C48B-45D5-B697-EDCF48ED59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E1E0E-4D19-42F9-A45F-0E7901B1C4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F6AF5-AFCA-47E4-B847-14EE8778D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1B70B-05A0-4369-9230-C5FA4CBF2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A3663-0AF9-4A76-B7CC-0A5C97636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3AC9D-9303-4E9A-BC80-B882C9F76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60E37-9490-46E4-99FB-D330C175F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F2951-30A9-4FF8-B175-B1663C8E8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0B96-EC72-48B0-9C1F-AFE4901E2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C9CA-9B7F-4140-A564-692BF6D57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6EDC-0C0D-4283-A88E-03D72EA02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37F1-A294-464B-A052-8D0BA46D2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E6D02-A2E9-468C-A3BA-9242F50CE513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26920" y="198864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ΛΕΥΚΑ ΑΙΜΟΣΦΑΙΡΙ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ΜΟΝΟΠΥΡΗΝ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468000" y="1267920"/>
            <a:ext cx="8351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ίναι το 2-5% των λευκοκυττάρ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Μορφολογία πυρήνα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: Μονήρης, χωρίς λοβού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Κυτταρόπλασμα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: Δεν φέρει έντονη κοκκίωση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Έχουν τη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μεγαλύτερη φαγοκυτταρική ικανότητ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Τα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μακροφάγα των ιστών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ίναι μεταναστευτικά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ποτελούν το κύριο τμήμα του ΔΕ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ΔΙΚΤΥΟΕΝΔΟΘΗΛΙΑΚΟ ΣΥΣΤΗΜ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Είναι ένα φαγοκυτταρικό σύστημα που στηρίζεται στα </a:t>
            </a:r>
            <a:r>
              <a:rPr b="1" lang="el-GR" sz="2600" spc="-1" strike="noStrike" u="sng">
                <a:solidFill>
                  <a:srgbClr val="ff0000"/>
                </a:solidFill>
                <a:uFillTx/>
                <a:latin typeface="Arial"/>
              </a:rPr>
              <a:t>μακροφάγα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 των ιστών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Κινούνται ελεύθερα διαμέσου του συνδετικού ιστού και συνήθως είναι καθηλωμένα σε ορισμένες περιοχές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Σε λοιμώξεις ενεργοποιούνται και μεταναστεύου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Υπάρχουν πολλά στους λεμφαδένες, το σπλήνα και το μυελό των οστώ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6407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ΤΟ ΠΕΡΙΛΑΜΒΑΝΕΙ ΤΟ ΔΙΚΤΥΟΕΝΔΟΘΗΛΙΑΚΟ ΣΥΣΤΗΜ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6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Τα μακροφάγα των ιστώ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 Τα κυψελιδικά μακροφάγα των πνευμόν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 Τα κύτταρα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Kupffer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στο ήπα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 Τα κύτταρα της νευρογλοίας στο νευρικό σύστημ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16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ΠΑΡΑΓΩΓΗ ΛΕΥΚΟΚΥΤΤΑΡ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24000" y="148392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Αρχέγονα πολυδύναμα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(st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 u="sng">
                <a:solidFill>
                  <a:srgbClr val="002060"/>
                </a:solidFill>
                <a:uFillTx/>
                <a:latin typeface="Arial"/>
              </a:rPr>
              <a:t>Λεμφική σειρά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             </a:t>
            </a:r>
            <a:r>
              <a:rPr b="1" lang="el-GR" sz="3200" spc="-1" strike="noStrike" u="sng">
                <a:solidFill>
                  <a:srgbClr val="002060"/>
                </a:solidFill>
                <a:uFillTx/>
                <a:latin typeface="Arial"/>
              </a:rPr>
              <a:t>Μυελική σειρ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Β - λεμφοκύτταρα          Όλες οι άλλε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Τ - λεμφοκύτταρα            ομάδε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5"/>
          <p:cNvSpPr/>
          <p:nvPr/>
        </p:nvSpPr>
        <p:spPr>
          <a:xfrm>
            <a:off x="2700360" y="2133720"/>
            <a:ext cx="289080" cy="503280"/>
          </a:xfrm>
          <a:prstGeom prst="downArrow">
            <a:avLst>
              <a:gd name="adj1" fmla="val 50000"/>
              <a:gd name="adj2" fmla="val 435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6"/>
          <p:cNvSpPr/>
          <p:nvPr/>
        </p:nvSpPr>
        <p:spPr>
          <a:xfrm>
            <a:off x="6154560" y="2133720"/>
            <a:ext cx="289080" cy="503280"/>
          </a:xfrm>
          <a:prstGeom prst="downArrow">
            <a:avLst>
              <a:gd name="adj1" fmla="val 50000"/>
              <a:gd name="adj2" fmla="val 435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ΠΑΡΑΓΩΓΗ ΛΕΥΚΟΚΥΤΤΑΡ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79" name="Picture 4" descr="6"/>
          <p:cNvPicPr/>
          <p:nvPr/>
        </p:nvPicPr>
        <p:blipFill>
          <a:blip r:embed="rId1"/>
          <a:stretch/>
        </p:blipFill>
        <p:spPr>
          <a:xfrm>
            <a:off x="1476360" y="830160"/>
            <a:ext cx="6624720" cy="582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ΦΑΓΟΚΥΤΤΑΡΩΣ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1"/>
          <p:cNvPicPr/>
          <p:nvPr/>
        </p:nvPicPr>
        <p:blipFill>
          <a:blip r:embed="rId1"/>
          <a:stretch/>
        </p:blipFill>
        <p:spPr>
          <a:xfrm>
            <a:off x="324000" y="1239840"/>
            <a:ext cx="828036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ΕΞΕΤΑΣΕΙΣ ΛΕΥΚΩΝ ΑΙΜΟΣΦΑΙΡΙ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2133720"/>
            <a:ext cx="8229600" cy="3992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1. Αριθμός λευκών αιμοσφαιρίων (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WBC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2.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Λευκοκυτταρικός τύπο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ΡΙΘΜΟΣ ΛΕΥΚΩΝ (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WB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50560" y="1268280"/>
            <a:ext cx="878508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Φυσιολογικές Τιμές</a:t>
            </a:r>
            <a:br>
              <a:rPr sz="2600"/>
            </a:b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Ενήλικες/Παιδιά &gt; 2 ετών : 5.000-10.000 /mm³</a:t>
            </a:r>
            <a:br>
              <a:rPr sz="2600"/>
            </a:b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Παιδιά ≤ 2 ετών : 6.200-17.000 /mm³</a:t>
            </a:r>
            <a:br>
              <a:rPr sz="2600"/>
            </a:b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Νεογνά : 9.000-30.000 /mm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ρμηνεία Εξέτασης</a:t>
            </a:r>
            <a:br>
              <a:rPr sz="2600"/>
            </a:b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Τα επίπεδα των λευκών αιμοσφαιρίων </a:t>
            </a:r>
            <a:r>
              <a:rPr b="0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αυξάνονται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 σε περίπτωση λοίμωξης, τραύματος, στρες, νέκρωσης ιστού και σε περίπτωση νοσημάτων του αίματος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Τα επίπεδα των λευκών αιμοσφαιρίων </a:t>
            </a:r>
            <a:r>
              <a:rPr b="0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μειώνονται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 σε πολλές μορφές ανεπάρκειας του μυελού των οστών, σε πολύ σοβαρές λοιμώξεις, σε διαιτητικές ελλείψεις, κατά τη λήψη τοξικών φαρμάκων καθώς και σε αυτοάνοσα νοσήματ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ΛΕΥΚΟΚΥΤΤΑΡΙΚΟΣ ΤΥΠ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50560" y="1413000"/>
            <a:ext cx="871380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Ορισμός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Είναι η ποσοστιαία (%) κατανομή των λευκοκυττάρων στους διάφορους τύπους λευκών αιμοσφαιρίω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Φυσιολογικές Τιμές</a:t>
            </a:r>
            <a:br>
              <a:rPr sz="2400"/>
            </a:b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    Ουδετερόφιλα : 55-70 %</a:t>
            </a:r>
            <a:br>
              <a:rPr sz="2400"/>
            </a:b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    Λεμφοκύτταρα : 20-40 %</a:t>
            </a:r>
            <a:br>
              <a:rPr sz="2400"/>
            </a:b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    Μονοκύτταρα : 2-8 %</a:t>
            </a:r>
            <a:br>
              <a:rPr sz="2400"/>
            </a:b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    Ηωσινόφιλα : 1-4 %</a:t>
            </a:r>
            <a:br>
              <a:rPr sz="2400"/>
            </a:b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    Βασεόφιλα : 0.5-1 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0360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ΕΡΜΗΝΕΙΑ ΛΕΥΚΟΚΥΤΤΑΡΙΚΟΥ ΤΥΠΟ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250560" y="907560"/>
            <a:ext cx="87138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Ουδετερόφιλα: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Αυξάνουν σε οξείες λοιμώξεις και τραύματα. Τα ουδετερόφιλα μειώνονται κατά τη λήψη ορισμένων φαρμάκων, σε αυτοάνοσα νοσήματα και σε διαταραχές της λειτουργίας του ανοσοποιητικού ή του μυελού των οστών.</a:t>
            </a:r>
            <a:br>
              <a:rPr sz="2400"/>
            </a:b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Λεμφοκύτταρα: </a:t>
            </a: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Αυξημένα επίπεδα λεμφοκυττάρων παρατηρούνται σε περιπτώσεις ιογενών λοιμώξεων ή σε νοσήματα του αίματος. Μειώνονται σε διαταραχές της λειτουργίας του ανοσοποιητικού, κατά τη λήψη ανοσοκατασταλτικών φαρμάκων και σε χημειοθεραπείες.</a:t>
            </a:r>
            <a:br>
              <a:rPr sz="2400"/>
            </a:b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Μονοκύτταρα: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Αυξάνονται σε λοιμώξεις, σε νοσήματα του αίματος καθώς και σε χρόνιες φλεγμονές.</a:t>
            </a:r>
            <a:br>
              <a:rPr sz="2400"/>
            </a:b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Ηωσινόφιλα: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Αυξάνονται σε αλλεργίες, παρασιτώσεις, διάφορες δερματοπάθειες, σε νοσήματα του αίματος και σε αυτοάνοσα νοσήματα.</a:t>
            </a:r>
            <a:br>
              <a:rPr sz="2400"/>
            </a:b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Βασεόφιλα: </a:t>
            </a: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Αυξάνονται σε αλλεργικές αντιδράσει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ΛΕΥΚΑ ΑΙΜΟΣΦΑΙΡΙ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ΡΟΛΟ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Απομάκρυνση κατεστραμμένων ιστώ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 algn="ctr">
              <a:spcBef>
                <a:spcPts val="700"/>
              </a:spcBef>
              <a:buClr>
                <a:srgbClr val="00206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προστασία από τις λοιμώξεις και τα καρκινικά κύτταρα (ανοσολογική αντίδραση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ΙΜΟΠΕΤΑΛΙ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250560" y="1484280"/>
            <a:ext cx="8496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ίναι θραύσματα κυττάρων του αίματος που περιέχουν οργανίδια και ένζυμα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,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αλλά όχι πυρηνικό υλικό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ριθμός: 150-300 χιλ./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mm3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ΠΑΡΑΓΩΓΗ ΑΙΜΟΠΕΤΑΛΙ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250560" y="1484280"/>
            <a:ext cx="8496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Προέρχονται από τα μεγαλοκύτταρα, που είναι γιγαντιαία πολυμορφοπύρηνα, που προέρχονται από τα αρχέγον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"/>
          <p:cNvPicPr/>
          <p:nvPr/>
        </p:nvPicPr>
        <p:blipFill>
          <a:blip r:embed="rId1"/>
          <a:stretch/>
        </p:blipFill>
        <p:spPr>
          <a:xfrm>
            <a:off x="324000" y="3500280"/>
            <a:ext cx="842472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ΙΜΟΠΕΤΑΛΙΑ: ΡΟΛ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250560" y="1484280"/>
            <a:ext cx="87138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Βοηθούν στην πρόληψη ή στη διακοπή της αιμορραγίας, με τη διαδικασία της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αιμόστασης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ίναι απαραίτητα για την επούλωση τραυμάτων και τον σχηματισμό θρόμβων.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ΕΞΕΤΑΣΕΙΣ ΑΙΜΟΠΕΛΑΤΙ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00000" y="1600200"/>
            <a:ext cx="77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1. Αριθμός αιμοπεταλίων (PLT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2. Μέσος Όγκος Αιμοπεταλίων (ΜPV)</a:t>
            </a:r>
            <a:br>
              <a:rPr sz="2600"/>
            </a:b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ΡΙΘΜΟΣ ΑΙΜΟΠΕΤΑΛΙ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907560"/>
            <a:ext cx="885672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Φυσιολογικές Τιμές</a:t>
            </a:r>
            <a:br>
              <a:rPr sz="2600"/>
            </a:b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Ενήλικες : 150.000-450.000 /mm³</a:t>
            </a:r>
            <a:br>
              <a:rPr sz="2600"/>
            </a:b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Πρόωρα βρέφη : 100.000-300.000 /mm³</a:t>
            </a:r>
            <a:br>
              <a:rPr sz="2600"/>
            </a:b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Νεογνά : 150.000-300.000 /mm³</a:t>
            </a:r>
            <a:br>
              <a:rPr sz="2600"/>
            </a:b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Βρέφη : 200.000-475.000 /mm³</a:t>
            </a:r>
            <a:br>
              <a:rPr sz="2600"/>
            </a:b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Παιδιά : 150.000-400.000 /mm³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ρμηνεία Εξέτασης</a:t>
            </a:r>
            <a:br>
              <a:rPr sz="2600"/>
            </a:br>
            <a:r>
              <a:rPr b="0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Τα μειωμένα επίπεδα 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αιμοπεταλίων (θρομβοκυτοπενία) μπορεί να οφείλονται σε μειωμένη παραγωγή ή σε αυξημένη καταστροφή τους εξαιτίας πολλών νοσημάτων. Η επίπονη άσκηση και η διαβίωση σε μεγάλο υψόμετρο μπορούν </a:t>
            </a:r>
            <a:r>
              <a:rPr b="0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να αυξήσουν 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τα επίπεδα των αιμοπεταλίων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5280" indent="-3052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Η λήψη ορισμένων φαρμάκων μπορεί να οδηγήσει σε    αύξηση ή σε μείωση των αιμοπεταλίω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8000" y="475920"/>
            <a:ext cx="8928000" cy="941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ΜΕΣΟΣ ΟΓΚΟΣ ΑΙΜΠΕΤΑΛΙΩΝ (ΜPV)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Φυσιολογικές Τιμές : 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7,5-11,5 μm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ρμηνεία Εξέτασης</a:t>
            </a:r>
            <a:br>
              <a:rPr sz="2600"/>
            </a:b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Ο MPV αποτελεί σημαντικό δείκτη του όγκου των αιμοπεταλίων και δείκτη αξιολόγησης των αιματολογικών και αιμορραγικών διαταραχών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96472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ΡΙΘΜΟΣ ΛΕΥΚΩΝ ΑΙΜΟΣΦΑΙΡΙ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ΑΡΙΘΜΟ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Φυσιολογικά: 4.000-10.000 /</a:t>
            </a: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 mm</a:t>
            </a:r>
            <a:r>
              <a:rPr b="1" lang="el-GR" sz="2800" spc="-1" strike="noStrike" baseline="30000">
                <a:solidFill>
                  <a:srgbClr val="00206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Σε λοιμώξεις ή φλεγομονές: Σημαντική αύξησ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ΤΥΠΟΙ ΛΕΥΚΩΝ ΑΙΜΟΣΦΑΙΡΙ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Με βάση την ιστολογική εμφάνιση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Πολυμορφοπύρηνα κοκκιοκύτταρ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- Ουδετερόφιλ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- Ηωσινόφιλ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- Βασεόφιλ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2. Μονοπύρηνα ακοκκιοκύτταρ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- Λεμφοκύτταρ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- Μονοπύρηνα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ΤΥΠΟΙ ΛΕΥΚΩΝ ΑΙΜΟΣΦΑΙΡΙ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704000" cy="355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ΟΥΔΕΤΕΡΟΦΙΛ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49600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ίναι το 60-70% των λευκοκυττάρ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Μορφολογία πυρήνα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: Πολύμορφος, λοβώδη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Κυτταρόπλασμα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: Φέρει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κοκκία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(λυσοσώματα), τα οποία περιέχουν ένζυμ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Έχουν μεγάλη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κινητικότητ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Καταστρέφουν μικροοργανισμούς με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φαγοκύττωσ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γκυστώνουν θραύσματα ή ολόκληρους ξένους μικροοργανισμού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γκλωβίζουν το στόχο σε κοκκία (φαγοσώματα) που συγχωνεύονται με τα λυσοσώματα, με τα ένζυμα των οποίων πέπτουν τις οργανικές ύλε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ΗΩΣΙΝΟΦΙΛ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49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ίναι το 1-4% των λευκοκυττάρ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Μορφολογία πυρήνα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: Πολύμορφος, λοβώδη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Κυτταρόπλασμα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: Φέρει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κοκκία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(λυσοσώματα), τα οποία περιέχουν ένζυμ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Καταστέφουν μικροοργανισμούς με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φαγοκύττωσ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Καταστροφή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παρασίτ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Αλλεργικές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αντιδράσει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ΒΑΣΕΟΦΙΛ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49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ίναι το 0,5% των λευκοκυττάρ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Μορφολογία πυρήνα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: Πολύμορφος, λοβώδη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Κυτταρόπλασμα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: Φέρει κοκκία, τα οποία περιέχουν ισταμίνη, ηπαρίνη και ένζυμ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Έχουν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φαγοκυτταρική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ικανότητ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πελευθερώνουν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ισταμίνη και ηπαρίν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Συμμετέχουν στις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αλλεργικές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αντιδράσει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ΛΕΜΦΟΚΥΤΤΑΡ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68000" y="1267920"/>
            <a:ext cx="83516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ίναι το 25-30% των λευκοκυττάρ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ff0000"/>
                </a:solidFill>
                <a:uFillTx/>
                <a:latin typeface="Arial"/>
              </a:rPr>
              <a:t>Δεν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είναι φαγοκύτταρ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Έχουν κύριο ρόλο στις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ανοσολογικές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απαντήσει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-3650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Διακρίνονται σε Β και Τ λεμφοκύτταρ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65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5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16:00:50Z</dcterms:created>
  <dc:creator>a</dc:creator>
  <dc:description/>
  <dc:language>en-US</dc:language>
  <cp:lastModifiedBy>Χρήστος</cp:lastModifiedBy>
  <dcterms:modified xsi:type="dcterms:W3CDTF">2015-03-12T08:30:43Z</dcterms:modified>
  <cp:revision>57</cp:revision>
  <dc:subject/>
  <dc:title>ΗΛΕΚΤΡΙΚΑ ΣΗΜΑΤΑ ΚΑΙ ΔΙΕΓΕΡΣΙΜΑ ΚΥΤΤΑΡΑ</dc:title>
</cp:coreProperties>
</file>